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595-D764-42DB-AB3D-3CAF8AF5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D05-8C0B-4F87-97B0-CBD13D4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A0E-EB9E-41CA-8E26-FC0A665E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DBE-5E5E-4378-968E-1D173833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974-5AD1-4AAF-8D50-6CD5FEB9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F66F-78C4-4FD8-A8A4-8E6BCF46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C89-75A7-412A-87AF-42E199C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865E-42D2-4F14-82E3-E09F852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A24C-4054-4904-86E9-7C661A3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16D5-BF5B-4F9D-A095-EE1B3E2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4F53-CD33-417D-A68C-F1C20B8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5E4-BBAE-4405-9B0A-D20C2C9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FD7-B1C7-4D32-A603-612188D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BA7B-FDD6-48A8-B639-69A72F4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186-BB05-4FED-BDDA-3748556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17A6-504B-4F07-BBD9-35CE0FF0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D4A-C167-425F-A1E4-E7DE4FB6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4AF-398E-4C0E-BA59-689090E1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E29-60BB-4AC8-BE54-A62B0B1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046-5698-49E3-8278-D383E8D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BF0-C77B-4A8C-BEC2-EAC04654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6B6-DCB2-41BC-9DA2-72D62DF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AA3-0B4A-4FCC-9574-3662D3B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502-8D23-457F-8D29-3F58208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7F6-79BE-4E08-8BE3-5A9704D2B21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5036-1CD0-4CF8-B525-A211A157D5B1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方正行楷简体"/>
              </a:rPr>
              <a:t>连云港市党政机关单位生活垃圾分类工作考核评价标准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612720" y="542880"/>
            <a:ext cx="1036944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0117080" cy="715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5:55:08Z</dcterms:created>
  <dc:creator>User</dc:creator>
  <dc:description/>
  <dc:language>en-US</dc:language>
  <cp:lastModifiedBy>User</cp:lastModifiedBy>
  <dcterms:modified xsi:type="dcterms:W3CDTF">2018-09-29T16:05:10Z</dcterms:modified>
  <cp:revision>1</cp:revision>
  <dc:subject/>
  <dc:title>连云港市党政机关单位生活垃圾分类工作考核评价标准</dc:title>
</cp:coreProperties>
</file>